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AD07-452B-4F25-8321-653EC006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08C8-8637-42DD-8BDE-5A9557E4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D90-FCDA-49C1-A61E-E9C66EB4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A36-85E1-4710-A908-6653241F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6F17-4C0D-400B-9DB0-782188F3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895-58A8-48DB-8DC4-3123B044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1B0-AF47-4ED8-AF49-F4993B02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139-06B9-4C58-A9AC-DE4C0659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731E-FAE9-4F71-9373-C4CEA848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C80D-0314-4797-843A-B183638F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D47F-8A56-474B-9501-C338BDB1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F75-931E-45EA-B07A-8DB222F9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B5F0-A17A-4DBC-B5F4-07D98998E4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3"/>
          <p:cNvSpPr/>
          <p:nvPr/>
        </p:nvSpPr>
        <p:spPr>
          <a:xfrm>
            <a:off x="324000" y="189000"/>
            <a:ext cx="9001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  <a:ea typeface="Arial"/>
              </a:rPr>
              <a:t>Логика – это вкусняшка для ум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Объект 4"/>
          <p:cNvSpPr/>
          <p:nvPr/>
        </p:nvSpPr>
        <p:spPr>
          <a:xfrm>
            <a:off x="1143000" y="857160"/>
            <a:ext cx="718668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785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емь сестер проводят вместе досу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85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рвая играет в шахм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85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торая – чит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85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ретья – убир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85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етвертая – поливает цве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85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ятая – играет с кот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85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Шестая – вышив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85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 что же делает седьмая сестра?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85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468360" y="692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дач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Коля, Вася и Серёжа гостили летом у бабушки. Однажды один из мальчиков нечаянно разбил любимую бабушкину ваз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Задачка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6"/>
          <p:cNvGrpSpPr/>
          <p:nvPr/>
        </p:nvGrpSpPr>
        <p:grpSpPr>
          <a:xfrm>
            <a:off x="5881680" y="3645000"/>
            <a:ext cx="3144960" cy="2705040"/>
            <a:chOff x="5881680" y="3645000"/>
            <a:chExt cx="3144960" cy="2705040"/>
          </a:xfrm>
        </p:grpSpPr>
        <p:pic>
          <p:nvPicPr>
            <p:cNvPr id="46" name="Picture 10" descr=""/>
            <p:cNvPicPr/>
            <p:nvPr/>
          </p:nvPicPr>
          <p:blipFill>
            <a:blip r:embed="rId2"/>
            <a:stretch/>
          </p:blipFill>
          <p:spPr>
            <a:xfrm>
              <a:off x="6515280" y="5229360"/>
              <a:ext cx="225720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2" descr="http://mdou-teremok.moy.su/kartinki/ab2a40ef409a-1-.png"/>
            <p:cNvPicPr/>
            <p:nvPr/>
          </p:nvPicPr>
          <p:blipFill>
            <a:blip r:embed="rId3"/>
            <a:stretch/>
          </p:blipFill>
          <p:spPr>
            <a:xfrm>
              <a:off x="8078760" y="4292640"/>
              <a:ext cx="94788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4" descr="http://falconsscience.files.wordpress.com/2007/10/cartoon-boys.jpg%3Fw%3D283%26h%3D494"/>
            <p:cNvPicPr/>
            <p:nvPr/>
          </p:nvPicPr>
          <p:blipFill>
            <a:blip r:embed="rId4"/>
            <a:stretch/>
          </p:blipFill>
          <p:spPr>
            <a:xfrm>
              <a:off x="5881680" y="3860640"/>
              <a:ext cx="1265400" cy="22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2" descr="malch55"/>
            <p:cNvPicPr/>
            <p:nvPr/>
          </p:nvPicPr>
          <p:blipFill>
            <a:blip r:embed="rId5"/>
            <a:stretch/>
          </p:blipFill>
          <p:spPr>
            <a:xfrm>
              <a:off x="6767640" y="3645000"/>
              <a:ext cx="1619280" cy="17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4"/>
          <p:cNvSpPr/>
          <p:nvPr/>
        </p:nvSpPr>
        <p:spPr>
          <a:xfrm>
            <a:off x="395280" y="1844640"/>
            <a:ext cx="842472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 вопрос, кто разбил вазу, они дали такие отве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ерёж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1) Я не разбивал. 2) Вася не разбив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ас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3) Серёжа не разбивал. 4) Вазу разбил Ко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л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5) Я не разбивал. 6) Вазу разбил Серёж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95280" y="3789360"/>
            <a:ext cx="5472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абушка знала, что один из её внуков (правдивый), оба раза сказал правду; второй (шутник) оба раза сказал неправду; третий (хитрец) один раз сказал правду, а другой раз - неправду. Назовите имена правдивого, шутника и хитрец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то из внуков разбил вазу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539640" y="2492280"/>
          <a:ext cx="8280360" cy="2327400"/>
        </p:xfrm>
        <a:graphic>
          <a:graphicData uri="http://schemas.openxmlformats.org/drawingml/2006/table">
            <a:tbl>
              <a:tblPr/>
              <a:tblGrid>
                <a:gridCol w="719280"/>
                <a:gridCol w="792000"/>
                <a:gridCol w="720720"/>
                <a:gridCol w="1449360"/>
                <a:gridCol w="638280"/>
                <a:gridCol w="1200240"/>
                <a:gridCol w="817560"/>
                <a:gridCol w="1022400"/>
                <a:gridCol w="92052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е Серё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е Ва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е Ко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3" name="Group 72"/>
          <p:cNvGrpSpPr/>
          <p:nvPr/>
        </p:nvGrpSpPr>
        <p:grpSpPr>
          <a:xfrm>
            <a:off x="3203640" y="3213000"/>
            <a:ext cx="431640" cy="429120"/>
            <a:chOff x="3203640" y="3213000"/>
            <a:chExt cx="431640" cy="429120"/>
          </a:xfrm>
        </p:grpSpPr>
        <p:sp>
          <p:nvSpPr>
            <p:cNvPr id="54" name="Text Box 73"/>
            <p:cNvSpPr/>
            <p:nvPr/>
          </p:nvSpPr>
          <p:spPr>
            <a:xfrm>
              <a:off x="320364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74"/>
            <p:cNvSpPr/>
            <p:nvPr/>
          </p:nvSpPr>
          <p:spPr>
            <a:xfrm>
              <a:off x="327672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75"/>
          <p:cNvGrpSpPr/>
          <p:nvPr/>
        </p:nvGrpSpPr>
        <p:grpSpPr>
          <a:xfrm>
            <a:off x="4356000" y="3213000"/>
            <a:ext cx="431640" cy="429120"/>
            <a:chOff x="4356000" y="3213000"/>
            <a:chExt cx="431640" cy="429120"/>
          </a:xfrm>
        </p:grpSpPr>
        <p:sp>
          <p:nvSpPr>
            <p:cNvPr id="57" name="Text Box 76"/>
            <p:cNvSpPr/>
            <p:nvPr/>
          </p:nvSpPr>
          <p:spPr>
            <a:xfrm>
              <a:off x="435600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77"/>
            <p:cNvSpPr/>
            <p:nvPr/>
          </p:nvSpPr>
          <p:spPr>
            <a:xfrm>
              <a:off x="442908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78"/>
          <p:cNvGrpSpPr/>
          <p:nvPr/>
        </p:nvGrpSpPr>
        <p:grpSpPr>
          <a:xfrm>
            <a:off x="7164360" y="3213000"/>
            <a:ext cx="431640" cy="429120"/>
            <a:chOff x="7164360" y="3213000"/>
            <a:chExt cx="431640" cy="429120"/>
          </a:xfrm>
        </p:grpSpPr>
        <p:sp>
          <p:nvSpPr>
            <p:cNvPr id="60" name="Text Box 79"/>
            <p:cNvSpPr/>
            <p:nvPr/>
          </p:nvSpPr>
          <p:spPr>
            <a:xfrm>
              <a:off x="716436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80"/>
            <p:cNvSpPr/>
            <p:nvPr/>
          </p:nvSpPr>
          <p:spPr>
            <a:xfrm>
              <a:off x="723744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81"/>
          <p:cNvGrpSpPr/>
          <p:nvPr/>
        </p:nvGrpSpPr>
        <p:grpSpPr>
          <a:xfrm>
            <a:off x="5219640" y="3213000"/>
            <a:ext cx="431640" cy="429120"/>
            <a:chOff x="5219640" y="3213000"/>
            <a:chExt cx="431640" cy="429120"/>
          </a:xfrm>
        </p:grpSpPr>
        <p:sp>
          <p:nvSpPr>
            <p:cNvPr id="63" name="Text Box 82"/>
            <p:cNvSpPr/>
            <p:nvPr/>
          </p:nvSpPr>
          <p:spPr>
            <a:xfrm>
              <a:off x="521964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3"/>
            <p:cNvSpPr/>
            <p:nvPr/>
          </p:nvSpPr>
          <p:spPr>
            <a:xfrm>
              <a:off x="529272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84"/>
          <p:cNvSpPr/>
          <p:nvPr/>
        </p:nvSpPr>
        <p:spPr>
          <a:xfrm>
            <a:off x="468360" y="189000"/>
            <a:ext cx="842472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шение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Пусть К =«Коля разбил вазу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=«Вася разбил вазу»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 =«Серёжа разбил вазу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им в таблице истинности высказывания каждого мальчика. Так как </a:t>
            </a:r>
            <a:r>
              <a:rPr b="0" lang="ru-RU" sz="2200" spc="-1" strike="noStrike">
                <a:solidFill>
                  <a:srgbClr val="008000"/>
                </a:solidFill>
                <a:latin typeface="Arial"/>
                <a:ea typeface="Arial"/>
              </a:rPr>
              <a:t>ваза разбита одним внуком, составим не всю таблицу, а только её фрагмент, содержащий наборы входных переменных: 001, 010, 10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5"/>
          <p:cNvSpPr/>
          <p:nvPr/>
        </p:nvSpPr>
        <p:spPr>
          <a:xfrm>
            <a:off x="500040" y="5000760"/>
            <a:ext cx="828036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сходя из того, что знает о внуках бабушка, следует искать в таблице строки, содержащие в каком-либо порядке три комбинации значений: 00, 11, 01 (или 10). Это первая стро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азу разбил Серёжа, он - хитрец. Шутником оказался Вася. Имя правдивого внука - Ко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6"/>
          <p:cNvSpPr/>
          <p:nvPr/>
        </p:nvSpPr>
        <p:spPr>
          <a:xfrm>
            <a:off x="2916360" y="3639960"/>
            <a:ext cx="1871640" cy="3607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7"/>
          <p:cNvSpPr/>
          <p:nvPr/>
        </p:nvSpPr>
        <p:spPr>
          <a:xfrm>
            <a:off x="5148360" y="3643200"/>
            <a:ext cx="1584360" cy="360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0"/>
          <p:cNvSpPr/>
          <p:nvPr/>
        </p:nvSpPr>
        <p:spPr>
          <a:xfrm>
            <a:off x="7020000" y="3639960"/>
            <a:ext cx="1584360" cy="3607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Заголовок 2"/>
          <p:cNvSpPr/>
          <p:nvPr/>
        </p:nvSpPr>
        <p:spPr>
          <a:xfrm>
            <a:off x="357120" y="189000"/>
            <a:ext cx="8786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Arial"/>
              </a:rPr>
              <a:t>Задачка 3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"/>
          <p:cNvSpPr/>
          <p:nvPr/>
        </p:nvSpPr>
        <p:spPr>
          <a:xfrm>
            <a:off x="611280" y="812880"/>
            <a:ext cx="79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рауну, Джонсу и Смиту предъявлено обвинение в соучастии в ограблении банка. Похитители скрылись на поджидавшем их автомобил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ледствии Браун показал, что преступники скрылись на синем «Бьюике»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жонс сказал, что это был чёрный «Крайслер»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мит утверждал, что это был «Форд Мустанг» и ни в коем случае не си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ло известно, что, желая запутать следствие, каждый из них указал правильно либо только марку машины, либо только её цвет. Какого цвета и какой марки был автомобил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rcRect l="45239" t="45090" r="25001" b="38842"/>
          <a:stretch/>
        </p:blipFill>
        <p:spPr>
          <a:xfrm>
            <a:off x="5003640" y="4797360"/>
            <a:ext cx="362772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Заголовок 2"/>
          <p:cNvSpPr/>
          <p:nvPr/>
        </p:nvSpPr>
        <p:spPr>
          <a:xfrm>
            <a:off x="900000" y="189000"/>
            <a:ext cx="7786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Бон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84360" y="907920"/>
            <a:ext cx="8135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офисе расположили 3 автомата с различными напитками. В первом – кофе, во втором – чай, а в третьем – и кофе, и чай (выдает случайным образом). Для любого из них нужна 1 монета. Каждый автомат обозначен наклейкой с названием продукта, который он выдаёт. Вот только на заводе перепутали наклейки, и на каждом из трех автоматов оказалась неправильная. За сколько монет можно выяснить, где какой автома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625320" y="3637080"/>
            <a:ext cx="813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ть 2 веревки и неограниченное количество спичек. Каждая веревка сгорает за час, однако горят они неравномерно, так что нельзя точно узнать, за какое время сгорит определенная часть веревки. Как отмерить с помощью этих двух веревок интервал в 45 мину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395280" y="1913040"/>
            <a:ext cx="822960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Что нового вы узнали  на ур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Чему научили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Цель достигнут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611280" y="189000"/>
            <a:ext cx="822960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§ 1.3.5. № 14, 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оп.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думать лог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З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адачу, используя знания одной из наук: истории, географии,физики и т.д. Ответом на задачу –должен быть факт соотвественно из истории, географии,физик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Наприм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стретились на рынке в Киеве пятеро торговцев из разных княжеств – Иван, Петр, Степан, Гриша и Алексей. Приехали они на рынок из разных городов. Петр и Гриша никогда не были в Муроме. Иван и Гриша все собираются поехать на рынок в соседний Чернигов. Петр и Иван часто торгуют в Смоленске. Степан торгует дома в Киеве. У Ивана свое место на рынке во Владимире, и он иногда ездит в Суздаль. Алексей – охотник, бьет белку в Муромских лесах. Определите кто из какого княж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Ира</cp:lastModifiedBy>
  <dcterms:modified xsi:type="dcterms:W3CDTF">2018-11-22T16:00:16Z</dcterms:modified>
  <cp:revision>152</cp:revision>
  <dc:subject/>
  <dc:title>Презентация PowerPoint</dc:title>
</cp:coreProperties>
</file>