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79C-E1CE-4949-A396-FED2285C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F9C-AAB6-4E7A-8AEB-289975EA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108-4365-4129-AFD8-59A3F70D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80F-78F0-4142-AC2B-3C4D602D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CEC3-0276-4AA4-8768-103865AE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F8EC-C1C7-44C9-916A-AD51B34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78EC-163B-414C-A8A2-75881C7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C433-C823-4248-A7E3-A6919E0D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154C-D1C4-4377-A42D-C16E1EE0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4291-3C5C-4F60-B2DA-E87AF90B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3342-0F20-4E72-8556-23C3C61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324-4555-4327-9646-C5569943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B086-818E-4F82-AB05-F8A8F3B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CF29-D0DA-44C8-AF14-3DB106E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EC40-9D71-4CD2-9935-D16BD9A0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8F27-9D4F-495A-84A5-FA3FD4BC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97D-F3BA-4BE5-9129-6246763D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128-9CC3-45FD-B76E-47EC865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87C-F77E-4863-AB91-213BB6EF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0AF-67E7-470E-BACC-B6C0CD90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E26-21F3-4596-B11E-A0A7A83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394-0B5D-44B8-BE5C-56F0941E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0B3-48BD-4BCB-A9AC-611256AB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6DD-AE46-4CA7-9F21-45886869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5397-9218-4865-8F15-2A81BDE681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4BEC-5DFE-4CE7-9105-21BE7A31E8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Verdana"/>
              </a:rPr>
              <a:t>Children’s work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00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38400" y="1557360"/>
            <a:ext cx="6667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51204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6265800" cy="3916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21027000">
            <a:off x="298440" y="58572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24000" y="4167360"/>
            <a:ext cx="4444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21098400">
            <a:off x="250560" y="549360"/>
            <a:ext cx="3851280" cy="2573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21011400">
            <a:off x="323640" y="4365360"/>
            <a:ext cx="2808000" cy="210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 rot="381600">
            <a:off x="5148000" y="476280"/>
            <a:ext cx="3671640" cy="289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817720" y="2527200"/>
            <a:ext cx="314964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 rot="21062400">
            <a:off x="5148000" y="3860280"/>
            <a:ext cx="35733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afle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0900400">
            <a:off x="4500360" y="1628640"/>
            <a:ext cx="4248000" cy="314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21131400">
            <a:off x="627120" y="3559320"/>
            <a:ext cx="3960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fé / B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20890800">
            <a:off x="4140000" y="907560"/>
            <a:ext cx="4762440" cy="361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52498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uring the Victorian time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1837-1901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43520" y="2133720"/>
            <a:ext cx="3149640" cy="446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28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11280" y="1557360"/>
            <a:ext cx="3116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imney swee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5040360" cy="3357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859280" y="4508640"/>
            <a:ext cx="406728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07240" y="549360"/>
            <a:ext cx="23367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al mi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737080" cy="1969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432144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3384720" cy="2291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492360" y="4400640"/>
            <a:ext cx="4753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tton factor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1779480"/>
            <a:ext cx="64087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04:06:43Z</dcterms:created>
  <dc:creator>Админ</dc:creator>
  <dc:description/>
  <dc:language>en-US</dc:language>
  <cp:lastModifiedBy>Админ</cp:lastModifiedBy>
  <dcterms:modified xsi:type="dcterms:W3CDTF">2018-11-19T12:30:15Z</dcterms:modified>
  <cp:revision>11</cp:revision>
  <dc:subject/>
  <dc:title>Слайд 1</dc:title>
</cp:coreProperties>
</file>